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A29E-B626-4891-9625-331C54D09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DB91-246F-4961-B9DB-760104BF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A4B3-13A6-41B2-8C25-11ED66469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6FB2-2361-40EC-9C85-615D0DE38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CB52-FF42-4205-B80B-7D5BD58D6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401D-8743-45DC-9723-609F986C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6CDE-DBD0-419C-8E6B-876FC3A5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9504-825C-4A85-9351-49C91E1C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C655-CB4C-40CD-B96A-2BAD3C74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DA05-1CB3-4E16-AF8E-670D95AF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986F-746F-45DB-8581-79BD12AD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5AA5-D045-403D-ADDB-3875FBE8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EAB6-2B10-4657-BB4B-A4DF9E02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6143-EC9B-45FF-BC00-9005690D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65CD-3D00-48F6-ACEE-6A1837C2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4B96-1E1C-44D3-AF50-3F255931A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E51C-A9D2-4065-871C-5503B7385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6296-7564-42BB-BA8F-46C05B7B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732A-6BCB-490D-BAAA-087E31AE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BB93-C6CE-4E4A-A601-50A96761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0EBB-77DF-4295-AA39-2B89C2ED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45E6-6DA7-4EC5-930D-AA6FA381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2D7C-5C8B-4B75-A743-4B201F01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1A75-3041-453C-BB03-991CE306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7F81-22D2-4061-BE4D-AA6306FCE96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1F4C-792F-40BC-A316-DDC7A8DA8E7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01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Me llamo __________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 Clase 6NH</a:t>
            </a:r>
            <a:br>
              <a:rPr sz="3200"/>
            </a:b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La fecha es el Primero de febrero del 2012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0000"/>
                </a:solidFill>
                <a:latin typeface="Verdana"/>
              </a:rPr>
              <a:t>Propósito # 38: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¿Cómo repasamos para la prueba del Repaso A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0000"/>
                </a:solidFill>
                <a:latin typeface="Verdana"/>
              </a:rPr>
              <a:t>Actividad Inicial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COPIA y completa con la forma correcta del verbo “Ser”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Erick y Jason no _____ de Hondura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Matthew y yo ______estudiantes de español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Stephanie y tú _______ alta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Jasmine ______ simpátic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Yo ______ norteamerican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Sebastian _______ de la Republica Dominican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75960"/>
            <a:ext cx="73134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actica: 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0663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PIA y responde en oraciones completa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¿De dónde eres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¿En qué escuela eres alumno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¿Es fácil o difícil el español?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¿Son inteligentes los estudiantes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¿Son ustedes alumnos en una escuela grande o pequeña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¿Quién es el profesor de historia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ive the correct form of the verb S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sted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___________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ú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___________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sotros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___________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Él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___________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stedes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___________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Yo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___________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llos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___________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lla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___________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llas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___________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2880"/>
            <a:ext cx="73134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7774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Copy and complete with the correct form of SER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Paulina ________ inteligent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Yo __________ un alumno buen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Melanie y Genesis _______ prima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Tú __________ cómic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Kilala y yo __________ seria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¿Ustedes _________ perezosos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Yolanda ___________ alt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Andrew, Mariano y Luisa __________ de Estados Unido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Ana y Caitlin _______ tímida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Steven ______ estudioso y simpátic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area # 38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leta la hoja distribuid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4:23:06Z</dcterms:created>
  <dc:creator>Helen Zumaeta</dc:creator>
  <dc:description/>
  <dc:language>en-US</dc:language>
  <cp:lastModifiedBy>Helen Zumaeta</cp:lastModifiedBy>
  <dcterms:modified xsi:type="dcterms:W3CDTF">2012-02-01T14:56:48Z</dcterms:modified>
  <cp:revision>3</cp:revision>
  <dc:subject/>
  <dc:title>Me llamo __________   Clase 6NH La fecha es el Primero de febrero del 2012</dc:title>
</cp:coreProperties>
</file>